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804D-6CE7-4449-B288-3DE6647CD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32FC-9D71-4598-9F63-3D36A8952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EB37-93B9-4AD1-877E-DED398B76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0757-4698-4284-AB41-FE81755A0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8B92-8014-4828-BAE5-F034D5786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3983-43BC-456D-AFC1-97CB2735D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C87B-D167-46E2-BE99-ED28140A1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12B6-E1D1-467A-A11F-B462C04B97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D3A6-1027-4D25-B7D7-15A92F95A7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F4EA-F66A-4006-9B66-606782DECC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81C4-FAA0-4B32-BA2B-384331C559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02A7-D8CE-40B9-BCDC-4D4399304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6A1D-2D8A-4B87-93D9-C8548A3B9B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F055-00CD-49E4-9445-1112527DCF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A2FB-4CC9-49E4-8847-8491A2DDC9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4730-3BAF-42CE-9357-E3E3EEC751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5048-5487-4BA6-A3F4-548E60554C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CA81-4064-49CC-8072-86D74A8903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BED8-ADC8-4AFB-A328-012FA3C6C3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1A29-04C7-4EBF-98A4-FB3E71B3F1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1FE8-F775-4A92-96A7-5F4454EF54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F91E-2630-48FA-8798-BA359D451D6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00F3-6126-46D1-B896-92FAF5D182C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56EC-91C7-4571-8EBF-37D791476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1474-901D-497F-81B2-72C885A74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29DF-30A9-47DC-9BAD-E5DEC1D1F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C433-E2FD-4D64-9FF4-E047BA3AF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45B1-5A13-49F1-9898-67205D2F7E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Year 1 Overvie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52120" y="35812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93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3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Coordinat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Review and Planning Meeting Tamale, Ghana, 23-25 October 2012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ir: IITA (R. Asiedu, Regional Director West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ordinator, serves as Secretary (I. Hoeschle-Zeled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hief Scientist (A. Larbi, II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M&amp;E Lead (IFP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mmunications Lead (K. Lopez, II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partners: CGIAR (1 rotational [ICRISAT]), CORAF (E. Asiedu), CSIR (A. Salifu), AGRA (K. Makind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Activity Manager (J. Glo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mbersh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4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cation Strategy and Tool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iki page, website , image and document 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gram Log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gram Document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ssembly of  all strategic docu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ogram con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urpose, objectives, outco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uiding principles and conceptual framewor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earch desig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og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&amp;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mmunication strate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nagement structu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ther strategic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362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inspect bilateral and multilateral food security programs in norther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 by SARI Director and Africa RISING chief scient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t of demonstration trails of drought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rig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lerant maize; rice seed multiplication and varietal t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s with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7 August: Visit US Congressional Staf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3" descr="C:\Users\izeledon\AppData\Local\Microsoft\Windows\Temporary Internet Files\Content.Outlook\QKSXL9TR\P8160321.JPG"/>
          <p:cNvPicPr/>
          <p:nvPr/>
        </p:nvPicPr>
        <p:blipFill>
          <a:blip r:embed="rId1"/>
          <a:stretch/>
        </p:blipFill>
        <p:spPr>
          <a:xfrm>
            <a:off x="6588000" y="4869000"/>
            <a:ext cx="2297160" cy="17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C:\Users\izeledon\AppData\Local\Microsoft\Windows\Temporary Internet Files\Content.Outlook\QKSXL9TR\P8160360.JPG"/>
          <p:cNvPicPr/>
          <p:nvPr/>
        </p:nvPicPr>
        <p:blipFill>
          <a:blip r:embed="rId2"/>
          <a:stretch/>
        </p:blipFill>
        <p:spPr>
          <a:xfrm>
            <a:off x="4067280" y="4869000"/>
            <a:ext cx="2162160" cy="1782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Users\izeledon\AppData\Local\Microsoft\Windows\Temporary Internet Files\Content.Outlook\QKSXL9TR\DSCN6800.JPG"/>
          <p:cNvPicPr/>
          <p:nvPr/>
        </p:nvPicPr>
        <p:blipFill>
          <a:blip r:embed="rId3"/>
          <a:stretch/>
        </p:blipFill>
        <p:spPr>
          <a:xfrm>
            <a:off x="826920" y="5084640"/>
            <a:ext cx="23050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15084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t. 2011: Brain storming meeting; agreement  on countries and regions: UER, UWR, NR [Ghana], Sikasso [Mali];  agreement on key farming system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15084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v./Dec. 2011: Development of Concept Note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farming systems: sorghum-, maize-, rice-based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150840">
              <a:spcBef>
                <a:spcPts val="7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an. 2012: Inception workshop Tamale: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+/- agreement on objectives, outcomes, outputs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firmation of regions and farming systems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eed for a thorough research framework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ast track workplan building on existing work to produce results by September 2012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1576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eb. 2012: First disbursement of funds to AfricaRice and ICRISAT; recruitment of systems agronomist; in ESA decision on program approach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1576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rch: Stakeholder workshop  for site selection in Ghana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 districts/region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 communities/distri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1576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ril 2012: set up of Project office in Tamale; recruitment of admin staff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1576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1576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y: Community analysis in Ghana;  Community Action Pla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trict stratification and characterization (rainfall, elevation, population, market access) by IFP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une 2012: development and summission of joint workplan; sub-agreements with partners; disbursement of fund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inuously: Strategic Program documents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39640" y="1196640"/>
            <a:ext cx="47530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Calibri"/>
              </a:rPr>
              <a:t>Sub-Agreements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87280" y="2060640"/>
          <a:ext cx="6121440" cy="4540320"/>
        </p:xfrm>
        <a:graphic>
          <a:graphicData uri="http://schemas.openxmlformats.org/drawingml/2006/table">
            <a:tbl>
              <a:tblPr/>
              <a:tblGrid>
                <a:gridCol w="3097440"/>
                <a:gridCol w="3024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it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solidFill>
                      <a:srgbClr val="ec82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solidFill>
                      <a:srgbClr val="ec821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U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W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0,6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I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54,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ca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9,8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ic to be applicable across all three Africa RISING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exible to allow site specific 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gram Research Framework Task Force initiated by Jerry Glover, USAID, and coordinated CIMMY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shop in July in Ibadan, Nigeria, to advance d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d, presented l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Research fra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d by IFP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shop in Addis Ababa in Septe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quires finalization of site selection process and research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tus presented l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&amp;E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rogram Management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C:\Users\gbright\Desktop\AfricaRISING program.jpg"/>
          <p:cNvPicPr/>
          <p:nvPr/>
        </p:nvPicPr>
        <p:blipFill>
          <a:blip r:embed="rId1"/>
          <a:stretch/>
        </p:blipFill>
        <p:spPr>
          <a:xfrm>
            <a:off x="611280" y="2133720"/>
            <a:ext cx="808020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214560">
              <a:spcBef>
                <a:spcPts val="45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advice and oversight on Project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1456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science guidance to Project implementers to ensure conformity with Program Research Framework and Program 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1456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ides Project planning and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1456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ves annual Project workplan and bu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1456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sees coordination between project components and 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1456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aises with MET to oversee M&amp;E; cc PCT on all report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1456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PCT informed of activities via the Project 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s and makes suggestions to Project Coordinator on semiannual technical progress reports to US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s yearly stakeholder meetings with support from Program Communications Te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cisions made by consensu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ets annually in personal and virtually as called by the Cha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A Steering Committee 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24T10:05:54Z</dcterms:modified>
  <cp:revision>17</cp:revision>
  <dc:subject/>
  <dc:title>Slide 1</dc:title>
</cp:coreProperties>
</file>